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82E-ED6D-4671-9DE4-ED3711938DC8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9924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7C2-50B6-45F7-90D5-49DA327DEA16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123200" y="326376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chnische Grundlagen des In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die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chnischen Grundlagen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(Teil 5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nternetadress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U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8440" y="2743200"/>
            <a:ext cx="70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Zugriffsprotokoll://Hostname.Domain/Pfad/Datei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2720" y="1828800"/>
            <a:ext cx="45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niform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sour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o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8800" y="3657600"/>
            <a:ext cx="6901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ftp://ftp.berlin.de/pub/soft/dos/virus/virdoc.txt</a:t>
            </a:r>
            <a:br>
              <a:rPr sz="18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ür eine FTP-Datei-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5320" y="4800600"/>
            <a:ext cx="772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www.bundestag.de/Etat2010/Forschung/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ür eine Webseiten-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ufbau der U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35320" y="175248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www.bundestag.de/Etat2010/Forschung/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2600" y="264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http: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4000" y="266688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Zugriffs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7480" y="319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ww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320" y="32004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4960" y="3805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bundestag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7600" y="38098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Domain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4146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/Etat2010/Forschu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23200" y="4357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Pf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0800" y="50101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urier New"/>
              </a:rPr>
              <a:t>interne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952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Datei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EMail-Adress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4800" y="17524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urier New"/>
              </a:rPr>
              <a:t>username@domain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8160" y="25909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webmaster@kag-langenfeld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365760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urier New"/>
              </a:rPr>
              <a:t>username@pophost.domain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160" y="457200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mathe@mail.bezreg-duesseldorf.nrw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4-02-18T13:39:13Z</dcterms:modified>
  <cp:revision>34</cp:revision>
  <dc:subject/>
  <dc:title>Internet</dc:title>
</cp:coreProperties>
</file>